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509-96C3-4EAC-9A2F-0A6FA28D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AF2-D038-40BD-B983-5AA9F2DD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9212-CFE8-49AF-B4F8-DC88DC4E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8B6-2A94-499C-AEE9-1BF2BD3A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324-24B3-4B66-B75A-DF3E4A8B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C17-E531-4755-8E34-7D1F2F17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5436-FD34-4A0F-BDAF-DD8B48E7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5F7C-2A58-440F-9936-7978B72B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7E10-4217-4B55-A2A7-FF7B8E2C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006-F9B9-4E8A-B639-96FAADD4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F84-AD12-4FD0-9341-3F2A12BD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51F-4872-40C8-8C25-1F984553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BBDF-CB2D-4AC5-B7E0-DB578FE49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33:09Z</dcterms:created>
  <dc:creator>INVES-S6600A</dc:creator>
  <dc:description/>
  <dc:language>en-US</dc:language>
  <cp:lastModifiedBy>INVES-S6600A</cp:lastModifiedBy>
  <dcterms:modified xsi:type="dcterms:W3CDTF">2010-11-23T13:33:33Z</dcterms:modified>
  <cp:revision>1</cp:revision>
  <dc:subject/>
  <dc:title>Diapositiva 1</dc:title>
</cp:coreProperties>
</file>